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A366-B46F-433A-90A8-4C8311496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E71F-B31A-400C-8852-18C9C9154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A562-5CAF-4169-882A-62FC7B5FC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B8C8-7E05-4D97-92BF-8E6861060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FD6E-8642-43A1-BC3E-B0DE3B9FE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175E-041A-4602-A521-FBA11A17F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5DFC-5CD9-4998-81C6-D986C38DA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D48C-16ED-4D81-BD50-5A90B805C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97C4-4A6E-4223-9944-71A5D4BC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E5CC-D998-49B8-B3B9-9A1716656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F1EF-D521-43EB-B2F5-A1FB66F23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A1AF-442A-419A-964B-76B52274B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D3CE-4E9D-477C-A6C3-6C600A9A16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experiences/mathexp2a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E0BA-F2A1-4920-95D7-B9CA1AF4D7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3</a:t>
            </a:r>
            <a:br>
              <a:rPr sz="4800"/>
            </a:b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upporting Students with</a:t>
            </a:r>
            <a:br>
              <a:rPr sz="4800"/>
            </a:b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Learning Disabilities in Mathematic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ldables 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1E35-8353-4764-AE43-BDED3C1BD2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228600" y="10666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take a walk around to see each other’s 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deas on types of foldables consi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eaching Mathematics with Foldables” by Dinah Z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93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Simulation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380A-4182-4491-9C94-F22618E641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7DA0-5D09-4D2C-830D-64356F21BE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33520" y="83808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scalcu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 referring to a wide range of life-long learning disabilities involving math. There is no one single form of this math disability, but usually it incorporates one or more of following areas of difficul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Spatial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Memory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864C-FCA8-4CFB-84BF-86668920C6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861160" cy="2666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3049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840" y="2057400"/>
            <a:ext cx="27939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9B53-0A99-4AE2-A249-78334554D9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86116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304920" y="990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sual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8886-D8E8-4BB4-BD85-FFBA8F969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90720"/>
            <a:ext cx="751824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240" y="9140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school / math department currently support students with LD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se students?  What courses are they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in your class with an LD.  Which of the cognitive processes is low for this student?  How does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F812-CFEA-4448-B295-126F7B6C66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167F-C926-4E46-A49E-4227A65CA8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17204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300560" cy="3048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304920" y="41911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situations relate to your math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Activi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IPS activity and look at it through the lens of an LD student to suggest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9 applied-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0 applied-Tr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1 workplace-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1U/C-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12 advanced functions-Rational function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A901-DE49-40FA-B231-3946B035F3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A1C5-BE4C-4A19-B830-E58B07F129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380880" y="2819520"/>
            <a:ext cx="3864240" cy="1681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04920" y="10666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groups, create a “foldable” to support students specific to your particular task. Consider the templates you have bee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6705720" y="152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7-11T05:43:49Z</dcterms:modified>
  <cp:revision>20</cp:revision>
  <dc:subject/>
  <dc:title>&lt;Title&gt;</dc:title>
</cp:coreProperties>
</file>